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3587F-0903-4251-A99F-FEEC4E83F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E76B1-1A17-459D-9686-C93B6B71B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tundramertel.weebly.com/succession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8A9F5-1CBE-4A02-BBBF-9A94A8D7F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uzzle.com/articles/pioneer-species-explained-with-example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9AE33-E550-4948-B358-693E8DB604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otany.hawaii.edu/faculty/bridges/bigisland/1974flow/1974flow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 link: https://www.youtube.com/watch?v=TLpc71YOt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E7733-41E4-42C4-9F8F-F5CA661AE1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3F8D4-608D-4761-A704-56269531F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to High Park Nature Centre info: http://www.highparknaturecentre.com/2016/05/all-about-high-parks-controlled-burns/?doing_wp_cron=1480568170.18974900245666503906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www.pinterest.com/pin/474003929501218974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E7771-D920-4F4A-89A1-518407F4E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torontoist.com/2009/07/a_natural_benefit_of_extended_municipal_strike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6C1BB-4EF3-4292-9B59-23B8636DB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F0C5-C100-4353-A0CC-9BBA55A40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670C-3958-408A-B987-9FAC8F346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E61C-5862-45C6-843F-65B87D9B0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A951-4729-44B6-84A6-37BDD3DB5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5FA5-4FCF-4738-8EA4-45A6899AF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D390-A102-4523-9372-54FC91FC2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3B92-3A96-4A76-BD68-4E07AF626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87E1-0D2F-4699-9110-D73B1F4C6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2B16-8F3D-4CFA-9449-2D31CC634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857B-61B8-466E-804B-7FC441E82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0681-539E-4A31-A482-90EFA97B5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29F2-A126-4C69-96DC-EFC75568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AF54C-8D81-428B-BA38-8EE2EF489E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3.1 - Succ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cc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is-IS" sz="3200" spc="-1" strike="noStrike">
                <a:solidFill>
                  <a:srgbClr val="000000"/>
                </a:solidFill>
                <a:latin typeface="Arial"/>
              </a:rPr>
              <a:t>is the gradual change in the species composition of an area over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mary Succ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 in an area that has no plants, animals, or so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s wit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oneer spec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ch as lich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Content Placeholder 2" descr="volcanic-landscape.jpg"/>
          <p:cNvPicPr/>
          <p:nvPr/>
        </p:nvPicPr>
        <p:blipFill>
          <a:blip r:embed="rId1"/>
          <a:srcRect l="19134" t="0" r="19134" b="0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mary Succ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succession on a lava flow here; would be similar to what occurred on the Galapag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Content Placeholder 2" descr="fernt.jpg"/>
          <p:cNvPicPr/>
          <p:nvPr/>
        </p:nvPicPr>
        <p:blipFill>
          <a:blip r:embed="rId1"/>
          <a:srcRect l="15276" t="0" r="15276" b="0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ary Succ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 after a disturbance in an eco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urbances can be natural (forest fires, floods, etc.) or due to human activity (e.g., deforestation, mining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 Activity &amp; Succ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cribed burns” can restore native vegetation in an ecosystem &amp; have been used since 2000 in High P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Content Placeholder 2" descr="Prescribed-burn-pic-3-Lauras-blog-post.png"/>
          <p:cNvPicPr/>
          <p:nvPr/>
        </p:nvPicPr>
        <p:blipFill>
          <a:blip r:embed="rId1"/>
          <a:srcRect l="18599" t="0" r="18599" b="0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ear-Cutting, Selective Cut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ive cutting can allow a community to remain in later stage of succession, maintaining biodivers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Content Placeholder 4" descr="cadf2100c186e5635981d261d719c2c5.jpg"/>
          <p:cNvPicPr/>
          <p:nvPr/>
        </p:nvPicPr>
        <p:blipFill>
          <a:blip r:embed="rId1"/>
          <a:srcRect l="-47486" t="0" r="-47486" b="0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ur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ually native species are planted &amp; succession is allowed to occur, resulting in an increase in biodiversity &amp; a more stable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Content Placeholder 6" descr="20090716naturalization.jpg"/>
          <p:cNvPicPr/>
          <p:nvPr/>
        </p:nvPicPr>
        <p:blipFill>
          <a:blip r:embed="rId1"/>
          <a:srcRect l="15278" t="0" r="15278" b="0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5T11:15:55Z</dcterms:created>
  <dc:creator>rubina khan</dc:creator>
  <dc:description/>
  <dc:language>en-US</dc:language>
  <cp:lastModifiedBy>rubina khan</cp:lastModifiedBy>
  <dcterms:modified xsi:type="dcterms:W3CDTF">2016-12-01T05:11:11Z</dcterms:modified>
  <cp:revision>62</cp:revision>
  <dc:subject/>
  <dc:title>Succession</dc:title>
</cp:coreProperties>
</file>